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FE3234-EF9F-400D-999F-ABDAA213AB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F769D5-C1FC-42C9-9EF7-A1214E57A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0F30E-1D55-4D2A-BE3F-76BD63CDEF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F2D7-3F36-493F-99AA-FA6CF104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0A9-462D-453B-BDBE-4EF0E4FE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3143-C76E-4356-B4CD-272575C2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ED17-6696-4882-9AAE-D789E6F0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499C-A382-4FE2-A2D3-CC9F3E08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F439-E2CA-4334-B37E-ECE86298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9A5F-CE99-4BD0-92F3-68681985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6E3F-43E6-4AF4-957E-0511F598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012F-42CD-4EAA-A64C-1A93FAA7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4EE8-387D-411C-A498-34E9D06B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5C6A-0191-450F-9B84-13A1B221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2C75-A9EE-4792-9C01-589258A2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E243-CA66-46D0-82B4-613226D0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9AC3-A125-41AD-A02F-BF34FD6B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9DC0-57E5-4F3F-837A-31369965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4F01-80E0-44A4-9E26-AE268392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1EB4-AC34-4972-B308-A08D0F2C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DEFFB-467F-42F6-B9D2-D1B2CB88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F0A03-072D-4D2E-8D2A-CFCDB355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D4DCA-435D-44D0-838F-E8FB0FC6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45903-C5C3-4F95-9CFA-D5E729BC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405EF-4A62-4FB7-A550-000499F8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7999-912C-4DE1-ABE2-B2FFEFBB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BD861-1910-4074-9A6B-D9A6B7C3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055F6-D7F3-4248-9257-7711C103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082F9-8180-4B93-9243-C19B0D76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99DD6-85F1-4D0A-9CA8-A3B61705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C0449-07A3-40F9-A379-BC6976C8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638BE-D4B6-47DD-B498-9D6847F3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45B18-ABA8-42FB-A32E-B2254A06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DD7F1-9756-42AB-8104-858EBC99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AA96C-3D38-4FFC-B4D4-473FCE52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C16F5-B9C8-4D0E-A711-CB48E4B3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C8AA-A1A8-41E2-9B38-8F1D67B3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2BDA1-5264-48AE-8B0F-552FE3B0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51317-C375-40FF-9686-903A9ACC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F68F7-6675-4CCC-8E2B-AFE70256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53192-8D2F-440C-8092-FEF182BE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FF92A-7FD5-4057-9DB1-0AABB003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586AE-A8A9-4C25-B5E3-64F418BB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5D55E-80A0-4BD8-9BED-64F0FF47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7B4A9-AD25-4311-BC4C-08227CC4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1BB45-9816-4E76-B097-577C6487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C0C2-2664-416E-BB30-00B33175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5793-09D1-4AE2-9840-95B57006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4DA-23F1-4D08-BABA-3AF9992D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E916-81A9-4DF3-B964-A41073BE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7372-5BE0-42E8-AE5A-29CC40E6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C76D86-D7E6-4383-BAA2-0C4CBD4AC8BD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7A2C39-261B-451B-9FFD-3627575D292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575FF-D167-4D7D-86B3-0F2D1D3F9DE1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50AC27-D3C9-4706-AB7C-3B745FD40E5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F69CB6-73CA-4865-A138-9B0471360158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E45968-0B74-43CA-90F0-F3AB4B0068B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8D519-BCD1-48AA-AD99-6755333FA6AA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D3C953-8A9B-4D64-A70B-985FEECF8E3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himachal-pardesh-india-4.jpg"/>
          <p:cNvPicPr/>
          <p:nvPr/>
        </p:nvPicPr>
        <p:blipFill>
          <a:blip r:embed="rId2"/>
          <a:stretch/>
        </p:blipFill>
        <p:spPr>
          <a:xfrm>
            <a:off x="1066680" y="736560"/>
            <a:ext cx="5837400" cy="54100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avita sadwa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724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Title 3" descr=""/>
          <p:cNvPicPr/>
          <p:nvPr/>
        </p:nvPicPr>
        <p:blipFill>
          <a:blip r:embed="rId3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eograph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Content Placeholder 3" descr="map.jpg"/>
          <p:cNvPicPr/>
          <p:nvPr/>
        </p:nvPicPr>
        <p:blipFill>
          <a:blip r:embed="rId2"/>
          <a:srcRect l="-42367" t="0" r="-42367" b="0"/>
          <a:stretch/>
        </p:blipFill>
        <p:spPr>
          <a:xfrm>
            <a:off x="-1752480" y="1847880"/>
            <a:ext cx="8229600" cy="43876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5"/>
          <p:cNvSpPr/>
          <p:nvPr/>
        </p:nvSpPr>
        <p:spPr>
          <a:xfrm>
            <a:off x="5105520" y="2400480"/>
            <a:ext cx="3809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tuated in the heart of western Himalaya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ocation :  between 30”22’’&amp;30”12” North latitude and between 75”47” &amp;79’4” east longitud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ountaineous state with altitude between 350-7000 meter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ctivit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_x0016_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3" descr="image.jpg"/>
          <p:cNvPicPr/>
          <p:nvPr/>
        </p:nvPicPr>
        <p:blipFill>
          <a:blip r:embed="rId2"/>
          <a:stretch/>
        </p:blipFill>
        <p:spPr>
          <a:xfrm>
            <a:off x="457200" y="2581200"/>
            <a:ext cx="7986600" cy="42768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4"/>
          <p:cNvSpPr/>
          <p:nvPr/>
        </p:nvSpPr>
        <p:spPr>
          <a:xfrm>
            <a:off x="7543800" y="1935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ountain hikin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6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ayaking  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Content Placeholder 3" descr="image_003.jpg"/>
          <p:cNvPicPr/>
          <p:nvPr/>
        </p:nvPicPr>
        <p:blipFill>
          <a:blip r:embed="rId2"/>
          <a:srcRect l="-6719" t="0" r="-6719" b="0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aving a bird’s eye vie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Content Placeholder 3" descr="image_004.jpg"/>
          <p:cNvPicPr/>
          <p:nvPr/>
        </p:nvPicPr>
        <p:blipFill>
          <a:blip r:embed="rId2"/>
          <a:srcRect l="-19590" t="0" r="-19590" b="0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mp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Content Placeholder 3" descr="image.jpg"/>
          <p:cNvPicPr/>
          <p:nvPr/>
        </p:nvPicPr>
        <p:blipFill>
          <a:blip r:embed="rId2"/>
          <a:srcRect l="0" t="-3327" r="0" b="-3327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8" name="Macintosh HD:Users:student:Music:iTunes:iTunes Music:Barry Starlin Britt:Soundzabound Volume 1 (Disc 1):13 Tender Moment.m4a" descr=""/>
          <p:cNvPicPr/>
          <p:nvPr/>
        </p:nvPicPr>
        <p:blipFill>
          <a:blip r:embed="rId3"/>
          <a:stretch/>
        </p:blipFill>
        <p:spPr>
          <a:xfrm>
            <a:off x="3809880" y="30798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omen picking tea-lea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Content Placeholder 3" descr="3542567438_5179dd006d.jpg"/>
          <p:cNvPicPr/>
          <p:nvPr/>
        </p:nvPicPr>
        <p:blipFill>
          <a:blip r:embed="rId2"/>
          <a:srcRect l="-4552" t="0" r="-4552" b="0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ren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Content Placeholder 4" descr="200907-getaways-glacier-ss.jpg"/>
          <p:cNvPicPr/>
          <p:nvPr/>
        </p:nvPicPr>
        <p:blipFill>
          <a:blip r:embed="rId2"/>
          <a:srcRect l="-28934" t="0" r="-28934" b="0"/>
          <a:stretch/>
        </p:blipFill>
        <p:spPr>
          <a:xfrm>
            <a:off x="-762120" y="213372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5"/>
          <p:cNvSpPr/>
          <p:nvPr/>
        </p:nvSpPr>
        <p:spPr>
          <a:xfrm flipV="1" rot="10800000">
            <a:off x="6400800" y="25030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o when do you plan to visit this beautiful place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6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5T16:00:32Z</dcterms:created>
  <dc:creator>College of Education</dc:creator>
  <dc:description/>
  <dc:language>en-US</dc:language>
  <cp:lastModifiedBy>College of Education</cp:lastModifiedBy>
  <dcterms:modified xsi:type="dcterms:W3CDTF">2009-07-25T18:48:50Z</dcterms:modified>
  <cp:revision>2</cp:revision>
  <dc:subject/>
  <dc:title>A visit  to Himachal Pradesh-  India</dc:title>
</cp:coreProperties>
</file>